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1071-0AFF-4ACE-8B69-C1D77B900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9DF7-0208-4C7F-82C7-2A0AA08EB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23E0-A35D-4B8D-B532-C4B911076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4F08-2F30-4451-BAB3-5ADA074AD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B9B9-D99B-4AA2-AA38-B05741A04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681B-BDFF-4849-95AD-091275E31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65BB-AAB1-4DAB-AD4B-761F8372C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54ED-0732-4C88-BAD7-EA1FECD0C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59F2-C571-4C84-86E2-16AEDC9D5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BC01-0ABF-4987-A77C-2B973732B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E3F0-E010-4916-9165-DFA707971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6351-1275-42E7-AF29-D5947F773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F0030-27DC-4B67-B613-E7F9B193DB4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Battle of Gettysbur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: Nate, Jaron, and Braed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imeline of Gettysbur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fore the Batt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y 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y 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y 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fter the Batt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efore the Battl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2280" y="1371240"/>
            <a:ext cx="5029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federates inflict bloody defeat on Union at Fredericksburg, VA. (12/13/6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rth defeated again in the Battle of Chancellorsville, VA (April 30-May 6, 186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eral Stonewall Jackson is shot by his own men in an accident and dies of Pneumonia (May 186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e decides to invade North in Spring-Early Summer ‘63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gain suppl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ull Union forces away from Vicksburg, 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vasion in North would hurt Lincoln’s political power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5" descr="Battle_of_Fredericksburg,_Dec_13,_1862"/>
          <p:cNvPicPr/>
          <p:nvPr/>
        </p:nvPicPr>
        <p:blipFill>
          <a:blip r:embed="rId1"/>
          <a:stretch/>
        </p:blipFill>
        <p:spPr>
          <a:xfrm>
            <a:off x="5410080" y="1312920"/>
            <a:ext cx="3467160" cy="2421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cur1506"/>
          <p:cNvPicPr/>
          <p:nvPr/>
        </p:nvPicPr>
        <p:blipFill>
          <a:blip r:embed="rId2"/>
          <a:stretch/>
        </p:blipFill>
        <p:spPr>
          <a:xfrm>
            <a:off x="5257800" y="3924360"/>
            <a:ext cx="386712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5029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Day 1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4193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federate soldiers led by A.P. Hill went on a search for shoes in Gettysburg, attacked by Union troop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90,000 Union troops took the field against 75,000 Confeder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federates take control over the town of Gettysb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Picture 7" descr="Gettysburg_Battle_Map_Day1"/>
          <p:cNvPicPr/>
          <p:nvPr/>
        </p:nvPicPr>
        <p:blipFill>
          <a:blip r:embed="rId1"/>
          <a:stretch/>
        </p:blipFill>
        <p:spPr>
          <a:xfrm>
            <a:off x="4952880" y="380880"/>
            <a:ext cx="4075200" cy="62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343040" y="274320"/>
            <a:ext cx="434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Day 2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962160" y="1523520"/>
            <a:ext cx="5181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e orders General James Longstreet to attack at Cemetery Ridg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federate soldiers attack at an unprotected Union hill known as Little Round Top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on leaders send Colonel Joshua L. Chamberlain and his men to defend Little Round Top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cause Chamberlain was running low on fuel, he ordered his men to attack the Confederates with fixed bayonets.  This surprise attack left Confederates surrendering in drove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5" descr="gettysburg_battle_map_day2"/>
          <p:cNvPicPr/>
          <p:nvPr/>
        </p:nvPicPr>
        <p:blipFill>
          <a:blip r:embed="rId1"/>
          <a:stretch/>
        </p:blipFill>
        <p:spPr>
          <a:xfrm>
            <a:off x="228600" y="838080"/>
            <a:ext cx="36320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5029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Day 3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320" y="1523520"/>
            <a:ext cx="487656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ee felt could break Union defenses, because Union weaken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ee ordered an artillery barrage at the middle of Union lines mid afterno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PICKETT’S CHARGE -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Longstreet, confident the barrage had silenced Union guns, ordered Confederate troops to attack the center of the Union line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rthern artillery resumed its fire and crippled the Confederate attacker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ee sent General Jeb Stuart’s forces to surprise attack Union General Meade’s force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uart’s forces were stalled due to a conflict with Union forces led by Robert Gregg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Picture 4" descr="350px-Gettysburg_Battle_Map_Day3"/>
          <p:cNvPicPr/>
          <p:nvPr/>
        </p:nvPicPr>
        <p:blipFill>
          <a:blip r:embed="rId1"/>
          <a:stretch/>
        </p:blipFill>
        <p:spPr>
          <a:xfrm>
            <a:off x="5060880" y="609480"/>
            <a:ext cx="393084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After the Battl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1920" y="1828440"/>
            <a:ext cx="5334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re than 23,000 Union casualties and 28,000 Confederate Casual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e gave up hopes of invading the North and retreated back to Virgin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e turned in his resignation which Jefferson Davis did not accep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North won the Battle of Vicksburg (May 18-July 4th, 186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ncoln gave the Gettysburg Address in November 1863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5" descr="Dead at Devil's Den"/>
          <p:cNvPicPr/>
          <p:nvPr/>
        </p:nvPicPr>
        <p:blipFill>
          <a:blip r:embed="rId1"/>
          <a:stretch/>
        </p:blipFill>
        <p:spPr>
          <a:xfrm>
            <a:off x="5715000" y="1600200"/>
            <a:ext cx="3162240" cy="2600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ghetty600"/>
          <p:cNvPicPr/>
          <p:nvPr/>
        </p:nvPicPr>
        <p:blipFill>
          <a:blip r:embed="rId2"/>
          <a:stretch/>
        </p:blipFill>
        <p:spPr>
          <a:xfrm>
            <a:off x="5410080" y="4267080"/>
            <a:ext cx="36576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ignificance of Gettysbur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3657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urning point in the w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ippled South so badly, Lee never invaded Northern state ag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ttysburg Address helped nation realize not just a collection of individual st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National Treasure 2_0001.wmv" descr=""/>
          <p:cNvPicPr/>
          <p:nvPr/>
        </p:nvPicPr>
        <p:blipFill>
          <a:blip r:embed="rId1"/>
          <a:stretch/>
        </p:blipFill>
        <p:spPr>
          <a:xfrm>
            <a:off x="3962520" y="2209680"/>
            <a:ext cx="48765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6T02:04:51Z</dcterms:created>
  <dc:creator>LWeber</dc:creator>
  <dc:description/>
  <dc:language>en-US</dc:language>
  <cp:lastModifiedBy>N4STY</cp:lastModifiedBy>
  <dcterms:modified xsi:type="dcterms:W3CDTF">2012-03-05T19:15:28Z</dcterms:modified>
  <cp:revision>4</cp:revision>
  <dc:subject/>
  <dc:title>The Battle of Gettysburg</dc:title>
</cp:coreProperties>
</file>